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48D-39C0-4181-AFCD-CC76B18B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C44-4524-4500-A842-E5101018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24-9F16-461E-BF9B-9501E599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9CC-5113-4326-8121-7FB2D8AA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6BA-7CE1-4C31-BB55-C821988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762-28AA-4ED4-9D9C-EFF3F806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58C-4CF5-427F-8C40-9CA33D8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622-0D88-4671-8C8F-004B93BA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F30-C63F-435C-9994-923AB30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C9A-24FA-4F9F-9E53-02AE657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B12-C7A4-4595-8D40-72775AE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D32-DCFA-40EE-AA44-130D555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4E4-98F6-413D-8C63-75543927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5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practicamos para el examen del Capitulo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s tu amigo(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él o e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h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.25 (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QU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PC: ASD4003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Prep Asse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: REPASO D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ITUL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HECK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UE ON THURSDAY PD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7432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7:27:48Z</dcterms:created>
  <dc:creator>Helen Zumaeta</dc:creator>
  <dc:description/>
  <dc:language>en-US</dc:language>
  <cp:lastModifiedBy>Helen Zumaeta</cp:lastModifiedBy>
  <dcterms:modified xsi:type="dcterms:W3CDTF">2011-05-03T17:59:43Z</dcterms:modified>
  <cp:revision>1</cp:revision>
  <dc:subject/>
  <dc:title>Me llamo _________ Clase 8IM La fecha es el 3 de mayo del 2011</dc:title>
</cp:coreProperties>
</file>